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097-D715-4EDF-9109-2B9E42931DD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ska du få lära dig lite mer om hur man ska tänka när man arbetar med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D4E7-09EE-442D-AC20-4515621ADFC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tt forska är att ta reda på någonting ny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ågonting som du inte redan vis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D1D-FAE7-4401-B93F-DE5EDB5624B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nnan du börjar leta fakta, fundera över vad du redan vet om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alla i klassen ska arbeta med samma ämne kan det vara bra att brainstorma i klass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ör en tankekarta där du skriver ner allt du redan vet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9AE1-DCEF-40AD-9EDE-E734786A306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begränsa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å kan det vara bra att skriva en frågeställn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ta gör du enklast genom att skriva en mening som uttrycker det du vill vet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veta mer om Anastasia Romanov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e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lära mig mer om musikstilen sam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går också bra att ställa en fråg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ar vikingarna så vilda som ryktet säger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F0D8-C0A2-4E18-82C9-F607D05C67B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C0A-25EB-4245-ACD4-587A41ABEF0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DDB-6846-4DEA-9EA8-95AB2DD002E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samla ihop all fakta du har hitt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a noga och gör en ny tankekarta kring din frågeställning eller fyll på den gam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dit all fakta som du tycker är viktig att ha med i ditt arbe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CDB-DF60-4F47-9361-F52DFEFD6EE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ska redovisa ditt arbete finns det några saker att tänk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med egna ord. Det är nu du har nytta av din tankekarta. Om du använder den blir du inte frestad att kop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du använder bilder i din redovisning – tänk på upphovsrätten. Det är inte fritt fram att använda vilka bilder som h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ala om var du har hämtat informationen. Det kallas för källhänvis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änk på att göra ett snyggt arbete som alla kan lä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F92-87A6-4673-833B-B631C3C53B3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970-5C21-42CB-B43A-C7484E5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748-2A8A-41D5-B2BD-B3B9B32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D05-DE45-49D8-BF56-80F2E4F6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846-7E0F-4429-BF34-B61F4430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270-988D-49BA-AD70-A044647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4C7-9FA4-4820-A43B-B9FEC38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D3AB-D966-43ED-A575-3626B08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D777-5A21-4550-999A-0F0B4EEB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D86D-0532-4070-9EFC-62D6643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F342-9A73-4C4C-9705-1C452DF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AE1-BFE5-4C33-8269-96A261B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B79-ACBE-4331-83E8-B652FC3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F409-98AD-4327-ABB2-FD1EC9E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58EA-9F54-4207-98DA-D4891AD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9449-5EBF-444F-AEAA-C398B72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CA6-A203-4B6D-B00C-873E0A5E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C785-5C5F-4AFC-8940-06999E0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9A48-23B0-466B-B954-E8FE66E9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CC5B-0DDC-4DC5-89C5-307D82C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BB7C-338C-48B7-B500-E8A8547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45FB-524D-4835-8B19-999EF54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D58F-AA42-44B5-9CCF-8908A00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245-BCDD-4FDD-9D90-2F0A628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6D0C-2394-4A66-B038-40D02FB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68A1-2FB7-4BCE-A61D-DDA0492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8B4E-0A9E-4E42-A96D-31ECAF0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5423-CDC2-406C-8D77-833F706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96FF-77C2-42E5-AF08-B4571C4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D6A2-0AA8-4020-B86D-CBD16B71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3AAA-6328-459A-B1C1-989179A1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8949-CF63-4C6B-B2BA-41114E9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E077-3BDC-4EF0-BA07-AB037E83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F4F1-94FC-4902-A73A-D2D71F4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0C2-0173-4044-BA88-2122448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7063-6F72-4879-952C-AA40BBC6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8AC2-0B37-4A73-8F63-B2746D14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F732-A9EF-4965-B5DF-FA415D0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C57F-09D3-46BE-82E9-74DFEFE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EDC6-ED24-4872-9AE6-6D8DFD9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BDE8-24B3-472D-9D18-B96CD1A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E81C-BBC3-4043-9267-52C6501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DC86-EA86-430C-BC0D-3B88C40D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BCA0-F242-4525-80FC-0859F549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174-41CB-47A7-BEEC-82B7CCA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43A-F604-4EF3-8DAA-64DE02F2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CBD-97E3-44E2-8923-CC4467F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25C-E56F-4371-B569-12809B5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40E-8B3C-42DC-8B7A-44DEB41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D1F-A46B-4DB2-A67C-A60BC0D02036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D37-C5F7-40F3-BD38-87F96AE322A4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724-A79F-4E90-B7A3-223053215501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5E0-569A-45EB-BEE6-6F2A81F83666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hyperlink" Target="http://www.geograph.org.uk/profile/5995" TargetMode="External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5.png"/><Relationship Id="rId3" Type="http://schemas.openxmlformats.org/officeDocument/2006/relationships/hyperlink" Target="http://www.geograph.org.uk/profile/5995" TargetMode="External"/><Relationship Id="rId4" Type="http://schemas.openxmlformats.org/officeDocument/2006/relationships/image" Target="../media/image39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C:\Users\rebecca.borg\AppData\Local\Microsoft\Windows\Temporary Internet Files\Content.IE5\SM42SJB5\MP900402623[1].jpg"/>
          <p:cNvPicPr/>
          <p:nvPr/>
        </p:nvPicPr>
        <p:blipFill>
          <a:blip r:embed="rId1"/>
          <a:stretch/>
        </p:blipFill>
        <p:spPr>
          <a:xfrm>
            <a:off x="91440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11" descr="C:\Users\rebecca.borg\AppData\Local\Microsoft\Windows\Temporary Internet Files\Content.IE5\B5K3C9DC\MP900308954[1].jpg"/>
          <p:cNvPicPr/>
          <p:nvPr/>
        </p:nvPicPr>
        <p:blipFill>
          <a:blip r:embed="rId2"/>
          <a:stretch/>
        </p:blipFill>
        <p:spPr>
          <a:xfrm>
            <a:off x="478296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3" name="Rubrik 1" descr=""/>
          <p:cNvPicPr/>
          <p:nvPr/>
        </p:nvPicPr>
        <p:blipFill>
          <a:blip r:embed="rId3"/>
          <a:stretch/>
        </p:blipFill>
        <p:spPr>
          <a:xfrm>
            <a:off x="0" y="195120"/>
            <a:ext cx="914400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:\Users\rebecca.borg\AppData\Local\Microsoft\Windows\Temporary Internet Files\Content.IE5\73YNZWFG\MP900400378[1].jpg"/>
          <p:cNvPicPr/>
          <p:nvPr/>
        </p:nvPicPr>
        <p:blipFill>
          <a:blip r:embed="rId1"/>
          <a:stretch/>
        </p:blipFill>
        <p:spPr>
          <a:xfrm>
            <a:off x="1828800" y="2251080"/>
            <a:ext cx="5486400" cy="36561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5" name="Rubrik 1" descr=""/>
          <p:cNvPicPr/>
          <p:nvPr/>
        </p:nvPicPr>
        <p:blipFill>
          <a:blip r:embed="rId2"/>
          <a:stretch/>
        </p:blipFill>
        <p:spPr>
          <a:xfrm>
            <a:off x="0" y="249120"/>
            <a:ext cx="91440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84120" y="157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1. Börja hos dig själv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2. Vad mer vill du ve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3. Leta fak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4. Samla fak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5. Skriv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6" descr="MP900386745[1]"/>
          <p:cNvPicPr/>
          <p:nvPr/>
        </p:nvPicPr>
        <p:blipFill>
          <a:blip r:embed="rId1"/>
          <a:stretch/>
        </p:blipFill>
        <p:spPr>
          <a:xfrm>
            <a:off x="4286160" y="2757600"/>
            <a:ext cx="358776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ktangel med rundade hörn 20" descr=""/>
          <p:cNvPicPr/>
          <p:nvPr/>
        </p:nvPicPr>
        <p:blipFill>
          <a:blip r:embed="rId1"/>
          <a:stretch/>
        </p:blipFill>
        <p:spPr>
          <a:xfrm>
            <a:off x="5010120" y="3889440"/>
            <a:ext cx="1940040" cy="1377720"/>
          </a:xfrm>
          <a:prstGeom prst="rect">
            <a:avLst/>
          </a:prstGeom>
          <a:ln w="0">
            <a:noFill/>
          </a:ln>
        </p:spPr>
      </p:pic>
      <p:pic>
        <p:nvPicPr>
          <p:cNvPr id="229" name="Rektangel med rundade hörn 18" descr=""/>
          <p:cNvPicPr/>
          <p:nvPr/>
        </p:nvPicPr>
        <p:blipFill>
          <a:blip r:embed="rId2"/>
          <a:stretch/>
        </p:blipFill>
        <p:spPr>
          <a:xfrm>
            <a:off x="5010120" y="2876400"/>
            <a:ext cx="2927520" cy="1281240"/>
          </a:xfrm>
          <a:prstGeom prst="rect">
            <a:avLst/>
          </a:prstGeom>
          <a:ln w="0">
            <a:noFill/>
          </a:ln>
        </p:spPr>
      </p:pic>
      <p:sp>
        <p:nvSpPr>
          <p:cNvPr id="230" name="textruta 10"/>
          <p:cNvSpPr/>
          <p:nvPr/>
        </p:nvSpPr>
        <p:spPr>
          <a:xfrm>
            <a:off x="5205960" y="2997360"/>
            <a:ext cx="2670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d vet du re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ruta 12"/>
          <p:cNvSpPr/>
          <p:nvPr/>
        </p:nvSpPr>
        <p:spPr>
          <a:xfrm>
            <a:off x="5195520" y="4033800"/>
            <a:ext cx="170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C:\Users\rebecca.borg\AppData\Local\Microsoft\Windows\Temporary Internet Files\Content.IE5\SM42SJB5\MP900433196[1].jpg"/>
          <p:cNvPicPr/>
          <p:nvPr/>
        </p:nvPicPr>
        <p:blipFill>
          <a:blip r:embed="rId3"/>
          <a:stretch/>
        </p:blipFill>
        <p:spPr>
          <a:xfrm>
            <a:off x="1200240" y="2554200"/>
            <a:ext cx="3636720" cy="2424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3" name="Rubrik 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ktangel med rundade hörn 15" descr=""/>
          <p:cNvPicPr/>
          <p:nvPr/>
        </p:nvPicPr>
        <p:blipFill>
          <a:blip r:embed="rId1"/>
          <a:stretch/>
        </p:blipFill>
        <p:spPr>
          <a:xfrm>
            <a:off x="1268280" y="5572080"/>
            <a:ext cx="6059520" cy="1146240"/>
          </a:xfrm>
          <a:prstGeom prst="rect">
            <a:avLst/>
          </a:prstGeom>
          <a:ln w="0">
            <a:noFill/>
          </a:ln>
        </p:spPr>
      </p:pic>
      <p:pic>
        <p:nvPicPr>
          <p:cNvPr id="235" name="Rubrik 1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5288040" y="1930320"/>
            <a:ext cx="28144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kriv frågor om det du vill veta mer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råga andra om hjä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ktangel med rundade hörn 11" descr=""/>
          <p:cNvPicPr/>
          <p:nvPr/>
        </p:nvPicPr>
        <p:blipFill>
          <a:blip r:embed="rId3"/>
          <a:stretch/>
        </p:blipFill>
        <p:spPr>
          <a:xfrm>
            <a:off x="1268280" y="4029120"/>
            <a:ext cx="6315120" cy="1176120"/>
          </a:xfrm>
          <a:prstGeom prst="rect">
            <a:avLst/>
          </a:prstGeom>
          <a:ln w="0">
            <a:noFill/>
          </a:ln>
        </p:spPr>
      </p:pic>
      <p:pic>
        <p:nvPicPr>
          <p:cNvPr id="238" name="Rektangel med rundade hörn 14" descr=""/>
          <p:cNvPicPr/>
          <p:nvPr/>
        </p:nvPicPr>
        <p:blipFill>
          <a:blip r:embed="rId4"/>
          <a:stretch/>
        </p:blipFill>
        <p:spPr>
          <a:xfrm>
            <a:off x="1255680" y="4809960"/>
            <a:ext cx="49197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textruta 16"/>
          <p:cNvSpPr/>
          <p:nvPr/>
        </p:nvSpPr>
        <p:spPr>
          <a:xfrm>
            <a:off x="1506240" y="4125960"/>
            <a:ext cx="590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ur vet man så mycket om dinosaurier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ruta 17"/>
          <p:cNvSpPr/>
          <p:nvPr/>
        </p:nvSpPr>
        <p:spPr>
          <a:xfrm>
            <a:off x="1443960" y="4906800"/>
            <a:ext cx="45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för är tigern utrotningshot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ruta 18"/>
          <p:cNvSpPr/>
          <p:nvPr/>
        </p:nvSpPr>
        <p:spPr>
          <a:xfrm>
            <a:off x="1495800" y="5657760"/>
            <a:ext cx="575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vikingarna så vilda som ryktet sä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Documents and Settings\Rebecca Borg\Lokala inställningar\Temporary Internet Files\Content.IE5\B7ZOHNRM\MP900422389[1].jpg"/>
          <p:cNvPicPr/>
          <p:nvPr/>
        </p:nvPicPr>
        <p:blipFill>
          <a:blip r:embed="rId5"/>
          <a:stretch/>
        </p:blipFill>
        <p:spPr>
          <a:xfrm>
            <a:off x="1325520" y="1758960"/>
            <a:ext cx="3826080" cy="1787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ubrik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44" name="Rektangel med rundade hörn 31" descr=""/>
          <p:cNvPicPr/>
          <p:nvPr/>
        </p:nvPicPr>
        <p:blipFill>
          <a:blip r:embed="rId2"/>
          <a:stretch/>
        </p:blipFill>
        <p:spPr>
          <a:xfrm>
            <a:off x="3365640" y="5121360"/>
            <a:ext cx="125568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45" name="textruta 24"/>
          <p:cNvGrpSpPr/>
          <p:nvPr/>
        </p:nvGrpSpPr>
        <p:grpSpPr>
          <a:xfrm>
            <a:off x="3468600" y="5084640"/>
            <a:ext cx="1096920" cy="792360"/>
            <a:chOff x="3468600" y="5084640"/>
            <a:chExt cx="1096920" cy="792360"/>
          </a:xfrm>
        </p:grpSpPr>
        <p:pic>
          <p:nvPicPr>
            <p:cNvPr id="246" name="textruta 24" descr=""/>
            <p:cNvPicPr/>
            <p:nvPr/>
          </p:nvPicPr>
          <p:blipFill>
            <a:blip r:embed="rId3"/>
            <a:stretch/>
          </p:blipFill>
          <p:spPr>
            <a:xfrm>
              <a:off x="3468600" y="5084640"/>
              <a:ext cx="10969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628440" y="5232240"/>
              <a:ext cx="75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il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Rektangel med rundade hörn 32" descr=""/>
          <p:cNvPicPr/>
          <p:nvPr/>
        </p:nvPicPr>
        <p:blipFill>
          <a:blip r:embed="rId4"/>
          <a:stretch/>
        </p:blipFill>
        <p:spPr>
          <a:xfrm>
            <a:off x="2182680" y="2193840"/>
            <a:ext cx="2475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49" name="textruta 25"/>
          <p:cNvGrpSpPr/>
          <p:nvPr/>
        </p:nvGrpSpPr>
        <p:grpSpPr>
          <a:xfrm>
            <a:off x="2292480" y="2182680"/>
            <a:ext cx="2382840" cy="798480"/>
            <a:chOff x="2292480" y="2182680"/>
            <a:chExt cx="2382840" cy="798480"/>
          </a:xfrm>
        </p:grpSpPr>
        <p:pic>
          <p:nvPicPr>
            <p:cNvPr id="250" name="textruta 25" descr=""/>
            <p:cNvPicPr/>
            <p:nvPr/>
          </p:nvPicPr>
          <p:blipFill>
            <a:blip r:embed="rId5"/>
            <a:stretch/>
          </p:blipFill>
          <p:spPr>
            <a:xfrm>
              <a:off x="2292480" y="2182680"/>
              <a:ext cx="2382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463480" y="2332080"/>
              <a:ext cx="2024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Uppslagsve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Rektangel med rundade hörn 33" descr=""/>
          <p:cNvPicPr/>
          <p:nvPr/>
        </p:nvPicPr>
        <p:blipFill>
          <a:blip r:embed="rId6"/>
          <a:stretch/>
        </p:blipFill>
        <p:spPr>
          <a:xfrm>
            <a:off x="689040" y="2925720"/>
            <a:ext cx="3956040" cy="1238400"/>
          </a:xfrm>
          <a:prstGeom prst="rect">
            <a:avLst/>
          </a:prstGeom>
          <a:ln w="0">
            <a:noFill/>
          </a:ln>
        </p:spPr>
      </p:pic>
      <p:grpSp>
        <p:nvGrpSpPr>
          <p:cNvPr id="253" name="textruta 26"/>
          <p:cNvGrpSpPr/>
          <p:nvPr/>
        </p:nvGrpSpPr>
        <p:grpSpPr>
          <a:xfrm>
            <a:off x="743040" y="2889360"/>
            <a:ext cx="4060800" cy="829440"/>
            <a:chOff x="743040" y="2889360"/>
            <a:chExt cx="4060800" cy="829440"/>
          </a:xfrm>
        </p:grpSpPr>
        <p:pic>
          <p:nvPicPr>
            <p:cNvPr id="254" name="textruta 26" descr=""/>
            <p:cNvPicPr/>
            <p:nvPr/>
          </p:nvPicPr>
          <p:blipFill>
            <a:blip r:embed="rId7"/>
            <a:stretch/>
          </p:blipFill>
          <p:spPr>
            <a:xfrm>
              <a:off x="743040" y="2889360"/>
              <a:ext cx="40608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98560" y="3040200"/>
              <a:ext cx="3612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aktaböcker och Internet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Rektangel med rundade hörn 34" descr=""/>
          <p:cNvPicPr/>
          <p:nvPr/>
        </p:nvPicPr>
        <p:blipFill>
          <a:blip r:embed="rId8"/>
          <a:stretch/>
        </p:blipFill>
        <p:spPr>
          <a:xfrm>
            <a:off x="2651040" y="1474920"/>
            <a:ext cx="2006640" cy="1347480"/>
          </a:xfrm>
          <a:prstGeom prst="rect">
            <a:avLst/>
          </a:prstGeom>
          <a:ln w="0">
            <a:noFill/>
          </a:ln>
        </p:spPr>
      </p:pic>
      <p:pic>
        <p:nvPicPr>
          <p:cNvPr id="257" name="Rektangel med rundade hörn 35" descr=""/>
          <p:cNvPicPr/>
          <p:nvPr/>
        </p:nvPicPr>
        <p:blipFill>
          <a:blip r:embed="rId9"/>
          <a:stretch/>
        </p:blipFill>
        <p:spPr>
          <a:xfrm>
            <a:off x="2914560" y="4383000"/>
            <a:ext cx="17067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ruta 27"/>
          <p:cNvGrpSpPr/>
          <p:nvPr/>
        </p:nvGrpSpPr>
        <p:grpSpPr>
          <a:xfrm>
            <a:off x="3011400" y="4346640"/>
            <a:ext cx="1517760" cy="798480"/>
            <a:chOff x="3011400" y="4346640"/>
            <a:chExt cx="1517760" cy="798480"/>
          </a:xfrm>
        </p:grpSpPr>
        <p:pic>
          <p:nvPicPr>
            <p:cNvPr id="259" name="textruta 27" descr=""/>
            <p:cNvPicPr/>
            <p:nvPr/>
          </p:nvPicPr>
          <p:blipFill>
            <a:blip r:embed="rId10"/>
            <a:stretch/>
          </p:blipFill>
          <p:spPr>
            <a:xfrm>
              <a:off x="3011400" y="4346640"/>
              <a:ext cx="1517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201480" y="4498920"/>
              <a:ext cx="1180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Interv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Bildobjekt 37" descr="1030323_e82b8df6.jpg"/>
          <p:cNvPicPr/>
          <p:nvPr/>
        </p:nvPicPr>
        <p:blipFill>
          <a:blip r:embed="rId11"/>
          <a:stretch/>
        </p:blipFill>
        <p:spPr>
          <a:xfrm>
            <a:off x="5002200" y="1511280"/>
            <a:ext cx="3314880" cy="4897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12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2829600" y="15588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Berättel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ktangel med rundade hörn 14" descr=""/>
          <p:cNvPicPr/>
          <p:nvPr/>
        </p:nvPicPr>
        <p:blipFill>
          <a:blip r:embed="rId13"/>
          <a:stretch/>
        </p:blipFill>
        <p:spPr>
          <a:xfrm>
            <a:off x="1920960" y="5840280"/>
            <a:ext cx="2693880" cy="1346400"/>
          </a:xfrm>
          <a:prstGeom prst="rect">
            <a:avLst/>
          </a:prstGeom>
          <a:ln w="0">
            <a:noFill/>
          </a:ln>
        </p:spPr>
      </p:pic>
      <p:pic>
        <p:nvPicPr>
          <p:cNvPr id="265" name="Rektangel med rundade hörn 15" descr=""/>
          <p:cNvPicPr/>
          <p:nvPr/>
        </p:nvPicPr>
        <p:blipFill>
          <a:blip r:embed="rId14"/>
          <a:stretch/>
        </p:blipFill>
        <p:spPr>
          <a:xfrm>
            <a:off x="2938320" y="3651120"/>
            <a:ext cx="1706760" cy="1255680"/>
          </a:xfrm>
          <a:prstGeom prst="rect">
            <a:avLst/>
          </a:prstGeom>
          <a:ln w="0">
            <a:noFill/>
          </a:ln>
        </p:spPr>
      </p:pic>
      <p:sp>
        <p:nvSpPr>
          <p:cNvPr id="266" name="textruta 2"/>
          <p:cNvSpPr/>
          <p:nvPr/>
        </p:nvSpPr>
        <p:spPr>
          <a:xfrm>
            <a:off x="3139920" y="372888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idskr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ruta 3"/>
          <p:cNvSpPr/>
          <p:nvPr/>
        </p:nvSpPr>
        <p:spPr>
          <a:xfrm>
            <a:off x="2125800" y="5946840"/>
            <a:ext cx="24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Undersök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ktangel med rundade hörn 28" descr=""/>
          <p:cNvPicPr/>
          <p:nvPr/>
        </p:nvPicPr>
        <p:blipFill>
          <a:blip r:embed="rId1"/>
          <a:stretch/>
        </p:blipFill>
        <p:spPr>
          <a:xfrm>
            <a:off x="1365120" y="3645000"/>
            <a:ext cx="3346560" cy="1901880"/>
          </a:xfrm>
          <a:prstGeom prst="rect">
            <a:avLst/>
          </a:prstGeom>
          <a:ln w="0">
            <a:noFill/>
          </a:ln>
        </p:spPr>
      </p:pic>
      <p:pic>
        <p:nvPicPr>
          <p:cNvPr id="269" name="Rubrik 1" descr=""/>
          <p:cNvPicPr/>
          <p:nvPr/>
        </p:nvPicPr>
        <p:blipFill>
          <a:blip r:embed="rId2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270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3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Rektangel med rundade hörn 16" descr=""/>
          <p:cNvPicPr/>
          <p:nvPr/>
        </p:nvPicPr>
        <p:blipFill>
          <a:blip r:embed="rId4"/>
          <a:stretch/>
        </p:blipFill>
        <p:spPr>
          <a:xfrm>
            <a:off x="1335240" y="2577960"/>
            <a:ext cx="3346200" cy="1897200"/>
          </a:xfrm>
          <a:prstGeom prst="rect">
            <a:avLst/>
          </a:prstGeom>
          <a:ln w="0">
            <a:noFill/>
          </a:ln>
        </p:spPr>
      </p:pic>
      <p:sp>
        <p:nvSpPr>
          <p:cNvPr id="272" name="textruta 19"/>
          <p:cNvSpPr/>
          <p:nvPr/>
        </p:nvSpPr>
        <p:spPr>
          <a:xfrm>
            <a:off x="1688760" y="2857680"/>
            <a:ext cx="26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upp käll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ruta 21"/>
          <p:cNvSpPr/>
          <p:nvPr/>
        </p:nvSpPr>
        <p:spPr>
          <a:xfrm>
            <a:off x="2040120" y="3890880"/>
            <a:ext cx="197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källkri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Bildobjekt 8" descr="1030323_e82b8df6.jpg"/>
          <p:cNvPicPr/>
          <p:nvPr/>
        </p:nvPicPr>
        <p:blipFill>
          <a:blip r:embed="rId5"/>
          <a:stretch/>
        </p:blipFill>
        <p:spPr>
          <a:xfrm>
            <a:off x="5002200" y="1511280"/>
            <a:ext cx="3314880" cy="4897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ktangel med rundade hörn 15" descr=""/>
          <p:cNvPicPr/>
          <p:nvPr/>
        </p:nvPicPr>
        <p:blipFill>
          <a:blip r:embed="rId1"/>
          <a:stretch/>
        </p:blipFill>
        <p:spPr>
          <a:xfrm>
            <a:off x="4621320" y="3511440"/>
            <a:ext cx="2869920" cy="1425600"/>
          </a:xfrm>
          <a:prstGeom prst="rect">
            <a:avLst/>
          </a:prstGeom>
          <a:ln w="0">
            <a:noFill/>
          </a:ln>
        </p:spPr>
      </p:pic>
      <p:pic>
        <p:nvPicPr>
          <p:cNvPr id="276" name="Rektangel med rundade hörn 7" descr=""/>
          <p:cNvPicPr/>
          <p:nvPr/>
        </p:nvPicPr>
        <p:blipFill>
          <a:blip r:embed="rId2"/>
          <a:stretch/>
        </p:blipFill>
        <p:spPr>
          <a:xfrm>
            <a:off x="4621320" y="2511360"/>
            <a:ext cx="2017440" cy="1311480"/>
          </a:xfrm>
          <a:prstGeom prst="rect">
            <a:avLst/>
          </a:prstGeom>
          <a:ln w="0">
            <a:noFill/>
          </a:ln>
        </p:spPr>
      </p:pic>
      <p:pic>
        <p:nvPicPr>
          <p:cNvPr id="277" name="Rektangel med rundade hörn 10" descr=""/>
          <p:cNvPicPr/>
          <p:nvPr/>
        </p:nvPicPr>
        <p:blipFill>
          <a:blip r:embed="rId3"/>
          <a:stretch/>
        </p:blipFill>
        <p:spPr>
          <a:xfrm>
            <a:off x="4621320" y="4511520"/>
            <a:ext cx="3352680" cy="1541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4932000" y="2533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nteck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782240" y="4700520"/>
            <a:ext cx="302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Gör en ny 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ruta 1"/>
          <p:cNvSpPr/>
          <p:nvPr/>
        </p:nvSpPr>
        <p:spPr>
          <a:xfrm>
            <a:off x="4862520" y="36147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lå upp ny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2" descr=""/>
          <p:cNvPicPr/>
          <p:nvPr/>
        </p:nvPicPr>
        <p:blipFill>
          <a:blip r:embed="rId4"/>
          <a:stretch/>
        </p:blipFill>
        <p:spPr>
          <a:xfrm>
            <a:off x="1239840" y="1886040"/>
            <a:ext cx="3024360" cy="39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4dcfa"/>
            </a:outerShdw>
          </a:effectLst>
        </p:spPr>
      </p:pic>
      <p:pic>
        <p:nvPicPr>
          <p:cNvPr id="282" name="Rubrik 1" descr=""/>
          <p:cNvPicPr/>
          <p:nvPr/>
        </p:nvPicPr>
        <p:blipFill>
          <a:blip r:embed="rId5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lternativ process 12" descr=""/>
          <p:cNvPicPr/>
          <p:nvPr/>
        </p:nvPicPr>
        <p:blipFill>
          <a:blip r:embed="rId1"/>
          <a:stretch/>
        </p:blipFill>
        <p:spPr>
          <a:xfrm>
            <a:off x="4363920" y="3121200"/>
            <a:ext cx="3872160" cy="15541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4552920" y="3300480"/>
            <a:ext cx="361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änk på upphovsrä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Alternativ process 13" descr=""/>
          <p:cNvPicPr/>
          <p:nvPr/>
        </p:nvPicPr>
        <p:blipFill>
          <a:blip r:embed="rId2"/>
          <a:stretch/>
        </p:blipFill>
        <p:spPr>
          <a:xfrm>
            <a:off x="4363920" y="3992400"/>
            <a:ext cx="3713400" cy="16034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4673880" y="4227480"/>
            <a:ext cx="3123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källhänvis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Rektangel med rundade hörn 17" descr=""/>
          <p:cNvPicPr/>
          <p:nvPr/>
        </p:nvPicPr>
        <p:blipFill>
          <a:blip r:embed="rId3"/>
          <a:stretch/>
        </p:blipFill>
        <p:spPr>
          <a:xfrm>
            <a:off x="4352760" y="4900680"/>
            <a:ext cx="1925640" cy="1396800"/>
          </a:xfrm>
          <a:prstGeom prst="rect">
            <a:avLst/>
          </a:prstGeom>
          <a:ln w="0">
            <a:noFill/>
          </a:ln>
        </p:spPr>
      </p:pic>
      <p:sp>
        <p:nvSpPr>
          <p:cNvPr id="288" name="textruta 18"/>
          <p:cNvSpPr/>
          <p:nvPr/>
        </p:nvSpPr>
        <p:spPr>
          <a:xfrm>
            <a:off x="4708440" y="5021280"/>
            <a:ext cx="13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Rektangel med rundade hörn 21" descr=""/>
          <p:cNvPicPr/>
          <p:nvPr/>
        </p:nvPicPr>
        <p:blipFill>
          <a:blip r:embed="rId4"/>
          <a:stretch/>
        </p:blipFill>
        <p:spPr>
          <a:xfrm>
            <a:off x="4359240" y="2298600"/>
            <a:ext cx="2206800" cy="1455840"/>
          </a:xfrm>
          <a:prstGeom prst="rect">
            <a:avLst/>
          </a:prstGeom>
          <a:ln w="0">
            <a:noFill/>
          </a:ln>
        </p:spPr>
      </p:pic>
      <p:sp>
        <p:nvSpPr>
          <p:cNvPr id="290" name="Platshållare för innehåll 2"/>
          <p:cNvSpPr/>
          <p:nvPr/>
        </p:nvSpPr>
        <p:spPr>
          <a:xfrm>
            <a:off x="4495680" y="2379600"/>
            <a:ext cx="1930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Egn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C:\Users\rebecca.borg\AppData\Local\Microsoft\Windows\Temporary Internet Files\Content.IE5\B5K3C9DC\MP900316887[1].jpg"/>
          <p:cNvPicPr/>
          <p:nvPr/>
        </p:nvPicPr>
        <p:blipFill>
          <a:blip r:embed="rId5"/>
          <a:stretch/>
        </p:blipFill>
        <p:spPr>
          <a:xfrm>
            <a:off x="1143000" y="1712880"/>
            <a:ext cx="2879640" cy="4351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2" name="Rubrik 1" descr=""/>
          <p:cNvPicPr/>
          <p:nvPr/>
        </p:nvPicPr>
        <p:blipFill>
          <a:blip r:embed="rId6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293" name="Rektangel 1"/>
          <p:cNvSpPr/>
          <p:nvPr/>
        </p:nvSpPr>
        <p:spPr>
          <a:xfrm>
            <a:off x="81000" y="6416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  <a:ea typeface="Arial"/>
              </a:rPr>
              <a:t>Av: Rebecca Borg, Bokelundskolan, Växj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25:12Z</dcterms:created>
  <dc:creator>Rebecca Borg</dc:creator>
  <dc:description/>
  <dc:language>en-US</dc:language>
  <cp:lastModifiedBy>Eric Haraldsson</cp:lastModifiedBy>
  <dcterms:modified xsi:type="dcterms:W3CDTF">2012-01-18T08:32:27Z</dcterms:modified>
  <cp:revision>151</cp:revision>
  <dc:subject/>
  <dc:title>Att arbeta med fakta</dc:title>
</cp:coreProperties>
</file>